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07D25-0A8A-4342-B8E9-325BBA53D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7C048-8DA2-4EF7-B26F-660BA5A62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A9409-A500-4ED1-9D5F-86E9481A1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C2497-AF16-4DF7-B524-C3AAF6903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7A56E-70B7-4F0E-8F11-B2CCE2CD9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E1A6F-4B1F-4821-9ACA-E6CB462C8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24CBF-E0FD-4BFB-9252-882A27526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BD1AD-F1F9-4F39-9858-327C335DE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096E0-3E07-474A-AAD2-C2DD59095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FEBA2-4077-4AA1-AABE-80B426909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00277-0D2C-47D0-9984-886108E99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84BC-C73B-4695-8ECB-79572EFDB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C6827-388F-47A9-A15C-454F4EB93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B92D3-A2D4-4A54-B96D-0C22DB06C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121F4-BA20-4CEF-ADA0-CF35094D2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E4794-1BE1-40D0-B15D-7595C6C21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1BEF8-A611-41B0-BC1E-1355F1E86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B799F-A19F-41C4-8EA0-3071DE448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ED69A-25A4-43AC-BB9E-6169F2C25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73B42-2D8F-4D7D-8871-508DBE7C5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CF0F0-6497-4820-8DD5-798B7541E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F35E-847F-4B92-8336-6AE6152D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5AC6-742F-40BC-9F7F-0F08898BA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A786-B6F7-4937-97AD-93B4808F2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07AF-D781-4042-93C1-C3997CA237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DD3C-380B-49C9-A436-0E6A2F6E36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7e7ff"/>
                </a:solidFill>
                <a:latin typeface="Arial"/>
              </a:rPr>
              <a:t>CULTURA ROMANĂ</a:t>
            </a:r>
            <a:endParaRPr b="0" lang="en-US" sz="1400" spc="-1" strike="noStrike">
              <a:solidFill>
                <a:srgbClr val="b7e7ff"/>
              </a:solidFill>
              <a:latin typeface="Arial"/>
            </a:endParaRPr>
          </a:p>
        </p:txBody>
      </p:sp>
      <p:sp>
        <p:nvSpPr>
          <p:cNvPr id="8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3" name="PlaceHolder 2"/>
          <p:cNvSpPr>
            <a:spLocks noGrp="1"/>
          </p:cNvSpPr>
          <p:nvPr>
            <p:ph type="subTitle"/>
          </p:nvPr>
        </p:nvSpPr>
        <p:spPr>
          <a:xfrm>
            <a:off x="1251000" y="3909960"/>
            <a:ext cx="7432560" cy="17128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83">
                                            <p:txEl>
                                              <p:pRg st="0" end="0"/>
                                            </p:txEl>
                                          </p:spTgt>
                                        </p:tgtEl>
                                        <p:attrNameLst>
                                          <p:attrName>style.visibility</p:attrName>
                                        </p:attrNameLst>
                                      </p:cBhvr>
                                      <p:to>
                                        <p:strVal val="visible"/>
                                      </p:to>
                                    </p:set>
                                    <p:animEffect filter="fade" transition="in">
                                      <p:cBhvr additive="repl">
                                        <p:cTn id="11" dur="10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301680" y="1676520"/>
            <a:ext cx="4191120" cy="35733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86" name="Picture 5" descr=""/>
          <p:cNvPicPr/>
          <p:nvPr/>
        </p:nvPicPr>
        <p:blipFill>
          <a:blip r:embed="rId2"/>
          <a:stretch/>
        </p:blipFill>
        <p:spPr>
          <a:xfrm>
            <a:off x="4724280" y="1371600"/>
            <a:ext cx="144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2a3</cp:lastModifiedBy>
  <dcterms:modified xsi:type="dcterms:W3CDTF">2012-06-19T10:54:4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